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7DCC-2C87-4D75-988A-CC2800B9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8DB-1625-4B2B-8EA6-F7D41E39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8D2E-094E-45B7-B40D-E79FB36C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8D88-41B2-4CBB-AF38-1B9A813A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9B19-71B3-4284-BDF7-BEB68559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30A9-DC1D-463F-ACDA-0D15CB2C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7D5E-3891-43A9-9FC6-4881A692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6AB8-78B3-4D45-A8A3-0BF6BB11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734A-FDB4-40B8-90EB-89DDEF78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7721-621D-4F9E-AAF3-322BB5B1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9261-4118-4496-AE52-1F92A28F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829B-3287-479B-9338-B5336D18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8EDF-7138-4296-B4BD-D3A405C1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447D-FB48-48C1-BB80-9F92ED2E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6C94-6BC2-4242-AFB8-FBD11094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A314-52BB-4EF2-B9D0-A24C9162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5369-DDF5-4AA9-99F8-0517BB05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240F-6AF8-4027-AC6C-0D09F0A0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BA2F-F665-43E8-A0B1-D215835F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3097-E6C1-49F6-8B31-0758047B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9855-84F6-4EC2-AC83-66E17A4A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89E5-B169-4FB7-AF2C-ABDEFD25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8234-6661-4693-B83D-97FBFCAD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8D6B-497A-4F8B-922B-AE6A20A6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461C-3519-4621-8D04-9DB768959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619B-BFB3-4E94-A066-2F8E4F753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Tug of War</a:t>
            </a:r>
            <a:br>
              <a:rPr sz="4100"/>
            </a:br>
            <a:r>
              <a:rPr b="0" i="1" lang="en-US" sz="1600" spc="-1" strike="noStrike">
                <a:solidFill>
                  <a:srgbClr val="336666"/>
                </a:solidFill>
                <a:latin typeface="Arial Black"/>
              </a:rPr>
              <a:t>A real-time strategy with first person action.</a:t>
            </a:r>
            <a:endParaRPr b="0" i="1" lang="en-US" sz="1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y: Earl Lamson III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nput – Next spiral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w subscription to individual ev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w for subscription group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w for switching input mode between different subscription group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705200" y="1905120"/>
            <a:ext cx="3733560" cy="4037760"/>
            <a:chOff x="4705200" y="1905120"/>
            <a:chExt cx="3733560" cy="4037760"/>
          </a:xfrm>
        </p:grpSpPr>
        <p:cxnSp>
          <p:nvCxnSpPr>
            <p:cNvPr id="129" name="_s150563"/>
            <p:cNvCxnSpPr>
              <a:stCxn id="130" idx="0"/>
              <a:endCxn id="131" idx="2"/>
            </p:cNvCxnSpPr>
            <p:nvPr/>
          </p:nvCxnSpPr>
          <p:spPr>
            <a:xfrm flipV="1" rot="16200000">
              <a:off x="6972840" y="4026960"/>
              <a:ext cx="505440" cy="1307520"/>
            </a:xfrm>
            <a:prstGeom prst="bentConnector3">
              <a:avLst>
                <a:gd name="adj1" fmla="val 225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50557"/>
            <p:cNvCxnSpPr>
              <a:stCxn id="133" idx="0"/>
              <a:endCxn id="131" idx="2"/>
            </p:cNvCxnSpPr>
            <p:nvPr/>
          </p:nvCxnSpPr>
          <p:spPr>
            <a:xfrm flipV="1">
              <a:off x="6572160" y="4428360"/>
              <a:ext cx="2160" cy="50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50555"/>
            <p:cNvCxnSpPr>
              <a:stCxn id="135" idx="0"/>
              <a:endCxn id="131" idx="2"/>
            </p:cNvCxnSpPr>
            <p:nvPr/>
          </p:nvCxnSpPr>
          <p:spPr>
            <a:xfrm flipH="1" flipV="1" rot="5400000">
              <a:off x="5666400" y="4028040"/>
              <a:ext cx="505440" cy="1306080"/>
            </a:xfrm>
            <a:prstGeom prst="bentConnector3">
              <a:avLst>
                <a:gd name="adj1" fmla="val 225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150553"/>
            <p:cNvCxnSpPr>
              <a:stCxn id="137" idx="0"/>
              <a:endCxn id="138" idx="2"/>
            </p:cNvCxnSpPr>
            <p:nvPr/>
          </p:nvCxnSpPr>
          <p:spPr>
            <a:xfrm flipV="1" rot="16200000">
              <a:off x="6972840" y="2512800"/>
              <a:ext cx="505440" cy="1307520"/>
            </a:xfrm>
            <a:prstGeom prst="bentConnector3">
              <a:avLst>
                <a:gd name="adj1" fmla="val 225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150552"/>
            <p:cNvCxnSpPr>
              <a:stCxn id="131" idx="0"/>
              <a:endCxn id="138" idx="2"/>
            </p:cNvCxnSpPr>
            <p:nvPr/>
          </p:nvCxnSpPr>
          <p:spPr>
            <a:xfrm flipV="1">
              <a:off x="6572160" y="2914200"/>
              <a:ext cx="2160" cy="50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50551"/>
            <p:cNvCxnSpPr>
              <a:stCxn id="141" idx="0"/>
              <a:endCxn id="138" idx="2"/>
            </p:cNvCxnSpPr>
            <p:nvPr/>
          </p:nvCxnSpPr>
          <p:spPr>
            <a:xfrm flipH="1" flipV="1" rot="5400000">
              <a:off x="5665680" y="2513160"/>
              <a:ext cx="505440" cy="1307520"/>
            </a:xfrm>
            <a:prstGeom prst="bentConnector3">
              <a:avLst>
                <a:gd name="adj1" fmla="val 225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8" name="_s150547"/>
            <p:cNvSpPr/>
            <p:nvPr/>
          </p:nvSpPr>
          <p:spPr>
            <a:xfrm>
              <a:off x="6012000" y="1905120"/>
              <a:ext cx="1119960" cy="10094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v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50548"/>
            <p:cNvSpPr/>
            <p:nvPr/>
          </p:nvSpPr>
          <p:spPr>
            <a:xfrm>
              <a:off x="4705200" y="3419280"/>
              <a:ext cx="1119960" cy="10094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TS Mo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ubscription grou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50549"/>
            <p:cNvSpPr/>
            <p:nvPr/>
          </p:nvSpPr>
          <p:spPr>
            <a:xfrm>
              <a:off x="6012000" y="3419280"/>
              <a:ext cx="1119960" cy="10094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PS Mod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ubscription Grou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CURRENT MODE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50550"/>
            <p:cNvSpPr/>
            <p:nvPr/>
          </p:nvSpPr>
          <p:spPr>
            <a:xfrm>
              <a:off x="7318800" y="3419280"/>
              <a:ext cx="1119960" cy="10094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U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ubscription Grou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50554"/>
            <p:cNvSpPr/>
            <p:nvPr/>
          </p:nvSpPr>
          <p:spPr>
            <a:xfrm>
              <a:off x="4706640" y="4933440"/>
              <a:ext cx="1118520" cy="10094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PS Mod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vent Subscrib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50556"/>
            <p:cNvSpPr/>
            <p:nvPr/>
          </p:nvSpPr>
          <p:spPr>
            <a:xfrm>
              <a:off x="6012000" y="4933440"/>
              <a:ext cx="1118880" cy="10094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PS Mod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vent Subscrib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50562"/>
            <p:cNvSpPr/>
            <p:nvPr/>
          </p:nvSpPr>
          <p:spPr>
            <a:xfrm>
              <a:off x="7317720" y="4933440"/>
              <a:ext cx="1119960" cy="10094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PS Mod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vent Subscrib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hysics – Currently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terface allow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on and destruction of bodies (dynam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ting of body parameters (shape, mass, position, velocity, force accumulat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ping of the sim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on and destruction of geometries, spaces (for manual coldet, used for 3d GU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 collisions between geometries, and spaces of geome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isions fire ev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ypes of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lision of the integration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lision of the geometry/space compar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hysics – Next Spiral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d more parameterization to the bodi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d more shapes, including support for mesh based collision detec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spatial partitioning to speed collision dete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 a way to merge the graphics meshes with the collision detection system allowing Direct3DX mesh optimization to be used for collision detection on simplified mesh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cripting - Currently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scripting suppor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did manage to get Lua work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glue code wasn’t very clear but it worke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n I realized, I don’t know Lua, and without having the other interfaces mostly realized, its not easy to glue them to Lu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emed this spiral as the wrong time for scripting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cripting – Next Spiral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ill too much change in the interfac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ill too early, I need to learn Lua if I’m to use it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’ll likely hold off on scripting until I get to the stage of defining entity behavior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New Subsystem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bject Manage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nent Based Ob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driven desig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ML definition of objects as compositions of components and their parame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site design patt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s scene graph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s component based obje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Environment Chang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b log, didn’t work, cause I didn’t do i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o much dramatic changes to 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dom were there clear milestones for relea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that useful unless I had a customer to which I wished to increase project visibi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source control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than once I got part way through a refactor before I saw the gaping hole in my design… no way to roll back my 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rgonomics are important to productivit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need a better desk, and to not develop on a lapto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’ve failed to produce a grandiose game in a single semest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have produced some rough prototype subsystems of a game engine that could be used to implement my grandiose gam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ssons learn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++ is not a RAD langua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rce control is not just for team proje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S.NET 2005 doesn’t have good C++ intellise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may rely too much on code insight and auto comple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Recap of Gam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rst person shooter and real-time strateg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arious units and building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resource and development system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ull a goal object to your goa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hoot pulling projectil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Recap of Architectur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 Subsyste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phics = Direct3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dio = FM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put = DirectIn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sics = 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ripting = Lu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evelopment Progres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piral Development Mod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gan by defining 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ng an archite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nt with emergent design while examining library feat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ed to implement my designs with limited suc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ch refacto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xt ste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t and/or redefin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solution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Graphics – Currently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interface allow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ing of unloading of meshes via .X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hard coded meshes: Sphere, Cube and Qu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, change and destroy ligh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, change and destroy came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nder a mesh using a cam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aw a colored filled rectangle (2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aw a st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Graphics – Next spiral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657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ene Grap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versal would support minimizing DirectX renderer state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incorporate DirectX Ef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cided not to use the DirectX sample GUI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495680" y="1905120"/>
            <a:ext cx="3962160" cy="4038120"/>
            <a:chOff x="4495680" y="1905120"/>
            <a:chExt cx="3962160" cy="4038120"/>
          </a:xfrm>
        </p:grpSpPr>
        <p:cxnSp>
          <p:nvCxnSpPr>
            <p:cNvPr id="101" name="_s145435"/>
            <p:cNvCxnSpPr>
              <a:stCxn id="102" idx="1"/>
              <a:endCxn id="103" idx="2"/>
            </p:cNvCxnSpPr>
            <p:nvPr/>
          </p:nvCxnSpPr>
          <p:spPr>
            <a:xfrm rot="10800000">
              <a:off x="6476760" y="5230080"/>
              <a:ext cx="179640" cy="47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45433"/>
            <p:cNvCxnSpPr>
              <a:stCxn id="103" idx="1"/>
              <a:endCxn id="105" idx="2"/>
            </p:cNvCxnSpPr>
            <p:nvPr/>
          </p:nvCxnSpPr>
          <p:spPr>
            <a:xfrm rot="10800000">
              <a:off x="5756040" y="4517280"/>
              <a:ext cx="179640" cy="47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45431"/>
            <p:cNvCxnSpPr>
              <a:stCxn id="105" idx="1"/>
              <a:endCxn id="107" idx="2"/>
            </p:cNvCxnSpPr>
            <p:nvPr/>
          </p:nvCxnSpPr>
          <p:spPr>
            <a:xfrm rot="10800000">
              <a:off x="5035320" y="3804840"/>
              <a:ext cx="180720" cy="47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45429"/>
            <p:cNvCxnSpPr>
              <a:stCxn id="109" idx="1"/>
              <a:endCxn id="110" idx="2"/>
            </p:cNvCxnSpPr>
            <p:nvPr/>
          </p:nvCxnSpPr>
          <p:spPr>
            <a:xfrm rot="10800000">
              <a:off x="7196040" y="3804840"/>
              <a:ext cx="180720" cy="1190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45427"/>
            <p:cNvCxnSpPr>
              <a:stCxn id="112" idx="1"/>
              <a:endCxn id="110" idx="2"/>
            </p:cNvCxnSpPr>
            <p:nvPr/>
          </p:nvCxnSpPr>
          <p:spPr>
            <a:xfrm rot="10800000">
              <a:off x="7196040" y="3804840"/>
              <a:ext cx="180720" cy="47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45425"/>
            <p:cNvCxnSpPr>
              <a:stCxn id="110" idx="0"/>
              <a:endCxn id="114" idx="2"/>
            </p:cNvCxnSpPr>
            <p:nvPr/>
          </p:nvCxnSpPr>
          <p:spPr>
            <a:xfrm flipV="1">
              <a:off x="7196400" y="3092040"/>
              <a:ext cx="1800" cy="23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45423"/>
            <p:cNvCxnSpPr>
              <a:stCxn id="107" idx="0"/>
              <a:endCxn id="116" idx="2"/>
            </p:cNvCxnSpPr>
            <p:nvPr/>
          </p:nvCxnSpPr>
          <p:spPr>
            <a:xfrm flipV="1">
              <a:off x="5035680" y="3092040"/>
              <a:ext cx="1800" cy="23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145419"/>
            <p:cNvCxnSpPr>
              <a:stCxn id="114" idx="0"/>
              <a:endCxn id="118" idx="2"/>
            </p:cNvCxnSpPr>
            <p:nvPr/>
          </p:nvCxnSpPr>
          <p:spPr>
            <a:xfrm flipV="1" rot="16200000">
              <a:off x="6537240" y="1957320"/>
              <a:ext cx="237960" cy="1081440"/>
            </a:xfrm>
            <a:prstGeom prst="bentConnector3">
              <a:avLst>
                <a:gd name="adj1" fmla="val 478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45418"/>
            <p:cNvCxnSpPr>
              <a:stCxn id="116" idx="0"/>
              <a:endCxn id="118" idx="2"/>
            </p:cNvCxnSpPr>
            <p:nvPr/>
          </p:nvCxnSpPr>
          <p:spPr>
            <a:xfrm flipH="1" flipV="1" rot="5400000">
              <a:off x="5456880" y="1958040"/>
              <a:ext cx="237960" cy="1080360"/>
            </a:xfrm>
            <a:prstGeom prst="bentConnector3">
              <a:avLst>
                <a:gd name="adj1" fmla="val 478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45414"/>
            <p:cNvSpPr/>
            <p:nvPr/>
          </p:nvSpPr>
          <p:spPr>
            <a:xfrm>
              <a:off x="5575320" y="1905120"/>
              <a:ext cx="108072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oot No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45415"/>
            <p:cNvSpPr/>
            <p:nvPr/>
          </p:nvSpPr>
          <p:spPr>
            <a:xfrm>
              <a:off x="4495680" y="2617560"/>
              <a:ext cx="108072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mera Nod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Worl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45416"/>
            <p:cNvSpPr/>
            <p:nvPr/>
          </p:nvSpPr>
          <p:spPr>
            <a:xfrm>
              <a:off x="6656400" y="2617560"/>
              <a:ext cx="108072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mera No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GUI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45422"/>
            <p:cNvSpPr/>
            <p:nvPr/>
          </p:nvSpPr>
          <p:spPr>
            <a:xfrm>
              <a:off x="4495680" y="3330360"/>
              <a:ext cx="108072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ulling No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ustum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45424"/>
            <p:cNvSpPr/>
            <p:nvPr/>
          </p:nvSpPr>
          <p:spPr>
            <a:xfrm>
              <a:off x="6656400" y="3330360"/>
              <a:ext cx="108072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alog No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Control Container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45426"/>
            <p:cNvSpPr/>
            <p:nvPr/>
          </p:nvSpPr>
          <p:spPr>
            <a:xfrm>
              <a:off x="7377120" y="4042800"/>
              <a:ext cx="108072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trol Nod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BorderAre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45428"/>
            <p:cNvSpPr/>
            <p:nvPr/>
          </p:nvSpPr>
          <p:spPr>
            <a:xfrm>
              <a:off x="7377120" y="4755600"/>
              <a:ext cx="107928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trol No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Label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45430"/>
            <p:cNvSpPr/>
            <p:nvPr/>
          </p:nvSpPr>
          <p:spPr>
            <a:xfrm>
              <a:off x="5216040" y="4042800"/>
              <a:ext cx="107964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ght No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45432"/>
            <p:cNvSpPr/>
            <p:nvPr/>
          </p:nvSpPr>
          <p:spPr>
            <a:xfrm>
              <a:off x="5935680" y="4755600"/>
              <a:ext cx="108072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ulling No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Light Bounds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45434"/>
            <p:cNvSpPr/>
            <p:nvPr/>
          </p:nvSpPr>
          <p:spPr>
            <a:xfrm>
              <a:off x="6656400" y="5468400"/>
              <a:ext cx="108072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esh Nod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udio - Currently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interface allow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ad sound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t and stop sound sources (looping only) and give them 3d posi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listener posi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master volu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udio – Next spiral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laying of streaming sounds (music) with cueing event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lay a non-3d sound once, fire and forget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ive sound sources velocity to support Doppler effect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nput – Currently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interface allow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scribe to all e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quire devices – exclusive access, traps mouse cursor, can poll for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quire devices – releases mouse cursor, can’t poll for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l data – interface fires events for any change in input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03:43:51Z</dcterms:created>
  <dc:creator>Earl Lamson III</dc:creator>
  <dc:description/>
  <dc:language>en-US</dc:language>
  <cp:lastModifiedBy>Earl Lamson III</cp:lastModifiedBy>
  <dcterms:modified xsi:type="dcterms:W3CDTF">2006-04-20T08:20:05Z</dcterms:modified>
  <cp:revision>4</cp:revision>
  <dc:subject/>
  <dc:title>Tug of War</dc:title>
</cp:coreProperties>
</file>